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66A-48A2-4FAD-B4E6-0076899C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3B3-5696-422F-B2A0-E6BD9B31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A50-4724-4FA8-BF8D-FD987D1C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5C6-0160-4DF9-8184-D8F643B6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BDEA-2139-48A0-8201-5727D14B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98AF-07EC-4DF9-97FD-20D8F9CF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5A6B-A0D3-45AF-B1B7-1ACA4577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16E9-4886-48B6-ABB8-074958AD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2A31-9604-42CA-BB7F-33170E86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2858-570E-48B8-B66A-C20ACDF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1E9F-E537-45AC-8773-409B2D68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9C4-991D-42EF-B6D9-979B8975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4361-9C27-4017-ACBD-2AD911CD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370C-128C-46DD-8795-788719DD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62B0-9233-4BD1-9F5D-F94BEE04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9E63-7B95-4703-A291-9FBC9BEE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71C5-8E70-46FB-B542-F10C8A96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8006D-879F-4C6A-9ADB-CF2993EA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0EE0-0314-4544-AA35-CC17DC0E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7899D-8949-4503-AC75-9177AC96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E3547-DBEB-432E-8F1D-52EB8386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2FF28-B654-4507-A05F-E5211CE7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CA9-94CA-4725-B5AF-9D8B0122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56AB-967D-4F9A-95E6-AB4280F9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E602-DA6F-4666-8E92-D45A5819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0C673-4C24-4AA4-A5F8-A50F5490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8E8DF-2AB6-486C-B456-381B348E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7BEB-0523-42BC-B95C-D12B2DA6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B2E6F-C912-457E-B126-F7C38851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6B98-0D80-4DC3-B049-7A8FEC48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D8DC7-1922-4467-BC9C-B206DCAD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B384-6231-4697-8A8A-12BD37EE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4A12-5E6F-48F2-B7A0-A6948019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66E-651D-4F84-A5F8-43EE04EE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06884-B296-47C3-817D-DE977DC6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E3536-70D4-4A17-8F6A-53F6BE9E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6CE16-97AA-4DBE-83EF-A93211E1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C1E2-6487-4174-817E-60E8A047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D8E33-AA92-4182-A192-91DB7A7C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3D79-44AE-4077-B66D-F2D826A7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FE81-C643-4F76-AFAC-79D0FFAE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4FDBD-2C2C-48B8-BE25-1F7CC75F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DA1F7-3BAC-4A02-BB85-5A92B03C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8B809-69DE-4127-B723-2538FCE8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377-412D-4C21-9947-596A32E2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52BC0-BABC-4EAA-A4BA-3E07159F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60C9C-31F5-4A8C-8717-287379DD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6F9C3-44EA-4995-BABB-2289A62D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8A57B-7A35-4A57-8BE4-DBB8DC79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C3333-BE58-458F-8237-98AE8C36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7F7BE-E808-416F-9B1B-7D0D6A2E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50F35-71D6-4831-90F0-DE3672CF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97F01-3E6A-4BE1-903A-DA76F9D7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82119-0C2A-4FAC-B3B6-07B42FD7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2A29D-1217-4E43-BB3B-EC03E24C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90A-6E09-46E7-834E-0FE1F818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F947F-9695-48AC-ACEA-2606A559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9633B-2909-4813-A788-F81A52BF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D0329-FBC4-4472-A242-570C2E56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36B17-E08A-44FA-A484-70A570A7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090EC-8AF4-442A-9A1A-455AE18F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ECDC2-8B1B-4EE3-91AA-C3937E8F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1A54C-B2F4-449E-89B6-1F454CA9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8E80E-BF74-4B54-AD23-EEE694B4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747D6-1954-424D-8C74-DC0D9B2C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5F18E-0EFF-4CF3-AAF4-88F8D836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E6D-3057-4CF5-B423-12539476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464B9-0CDA-4A02-89C0-C8934C06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182AD-02C5-4B44-9F27-52B69778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F1F44-124A-46B7-8769-2D6B137D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A72D5-9E84-4625-82D8-6ADE8B8B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42BC1-9D18-4A45-9A87-22A8AC74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3A916-CB85-488C-BF26-04FFD8DF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50CD5-EF02-43A9-9491-F5EAD2B3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C018F-D254-41A7-8AC8-5B070EDC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A72B1-27DE-4F1E-ACB3-2E50D5B2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50D26-F65E-4604-AA49-8E109AFA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2F1-E5F1-4741-968B-7FD24E41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FD654-FC20-4B70-A87E-AEFE9D22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0A002-4536-43C0-9A83-5065749A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D58BB-0793-4756-B21A-313AF157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2FD9B-8F11-4925-886E-4CA96529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1D717-1CE9-44F4-B144-C545ED60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804D4-D013-41AD-9EF3-F91EB5CE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FFB68-0B18-4B30-BB39-2ADE3E9A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359EB-18B1-4581-AF7E-1B328FCE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417A4-FB31-44B2-9D2D-5A3F7728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AF08B-BC43-4DE9-93DB-58D78EF0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FBB-1390-40DD-8D04-9D691C15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340EF-B648-43AB-BDE8-6ED6B26A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0AA67-70BE-45F6-8E26-58ACC104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AAF7E-A012-4CEA-9860-D469F562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E94DE-1241-44DC-8359-3FDA0E0B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90984-5B37-4E55-B3EA-A6DBC0B7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026D8-331F-4234-A36F-E0F1B80D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DE0E5-0E09-4D80-841D-A1462B0C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E5A8-6E97-4B8C-9C72-56634528F9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8048-A08F-4262-8C75-73AAE3F609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198E-B98A-49CD-8D8E-D2178E8B7B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7F06-D201-4197-9147-5BC6958ED0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EC2F-DDBD-4E69-87A5-EFB7EC5464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D33C-8739-4315-AEDD-7E4A671922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B3DF-861F-4090-B583-AACE4AF75A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A852-A7E2-4DB0-A4DD-955FCA8B0A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Fresh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682560" y="1060560"/>
            <a:ext cx="8089920" cy="184788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225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Noun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Homework/Share sto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Group discussion ques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July 23 1995 I was watching 60 minutes and saw a tape of Martin Luther King Jr. giving his famous speech that began with these words I have a drea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uby:Red::Opal: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ki:snow::swim: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workshe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d one person to work with, may not be any of the same people you have worked with before.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1:52:48Z</dcterms:created>
  <dc:creator>litchfield</dc:creator>
  <dc:description/>
  <dc:language>en-US</dc:language>
  <cp:lastModifiedBy>VMS</cp:lastModifiedBy>
  <dcterms:modified xsi:type="dcterms:W3CDTF">2009-09-02T16:19:12Z</dcterms:modified>
  <cp:revision>17</cp:revision>
  <dc:subject/>
  <dc:title>Sept. 2</dc:title>
</cp:coreProperties>
</file>